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9279-4226-46A4-ACFE-DFBF8DBD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DFD9-393D-477D-95E8-5CC54B7A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82C8-6501-4B49-A1E1-143EBF587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856-197E-41AA-ABD4-94E4003F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8346-8CF4-44D1-A568-6132BECD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6333-05EC-421A-AD32-196F5203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BA6F-06AA-4ADC-BE0F-535748D4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9BB0-F418-4ABF-AEA1-9960A621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F51F-3356-4CD3-BE55-652086B6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E530-433F-47AF-AEE8-106EB893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646B-1507-4138-997E-37C04C5D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6C96-DCC2-4CA4-8561-E4C90FC9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EE56-D490-4D77-A1CE-42EF42DE2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journals.plos.org/plosone/article?id=10.1371/journal.pone.0144239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2476440"/>
            <a:ext cx="9524880" cy="2260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3. Histogram of Genomic Contribu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lack DH, Dobson LK, du Toit JT, Derr J (2015) Genetic Analysis of the Henry Mountains Bison Herd. PLOS ONE 10(12): e0144239. https://doi.org/10.1371/journal.pone.0144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journals.plos.org/plosone/article?id=10.1371/journal.pone.0144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